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E93-4CB4-4E60-A8C1-BB864799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811-4950-4F51-B3FF-041A2091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BF83D-6364-4C76-A22F-16D02952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2EDAD-EDDC-49B8-BE2C-F597FAB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07D8E-410C-4E52-82E6-50E59886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072C8-905B-4DC6-A426-34B7F395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E694D-F301-4229-8DC4-5CD51EC8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1E409-6793-4D0D-9460-A8C987B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837CD-F9D2-40BE-9F6A-A3929557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90491-163A-49DD-9F55-8928D1CB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F9940-5079-4D26-8015-E89A8536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8658F-0359-4EFD-BBE6-67A0D77A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3E7-8C7B-4729-8DA1-5C9B44AE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F2521-AB61-4A74-A134-38B6D87F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1F2B6-83B8-4F55-AA2E-1B3634D4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E742A-4C65-4E45-B37F-751685AB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77D8F-EB52-4430-9016-9032D1BC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5E2C6-AF9C-4CF3-A81E-2758F13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F4474-8BB9-4D8F-B39D-9754F85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9B4DF-4F07-4C45-B5C1-2C44199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3F883-748A-425F-AEA7-277684A3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8299F-7F0F-4322-BF77-8AA45957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A9316-AD5C-4411-8D15-86512A7A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B5C-5846-440D-A5C8-D58D7B9F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0BA19-209C-4B0D-A200-90A02D51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D4B0A-0641-4FEB-91FF-072206B8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AD764-CB4A-4105-BE43-6C52CDFC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E3FC7-4E61-430B-907A-38608D42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DBD33-5F8A-4F5C-B8DD-FD03A9F1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E8831-07EF-4804-BA74-2CFCF293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C6F14-8FD6-4874-9781-04FC0492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2F6EA-1D87-41CA-884F-5BB6929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62B85-0667-49D3-A1BA-04EE2B5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92694-7BC5-4A86-8E9B-9345E96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911F-2977-4041-B5C0-186BB8A7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0840F-2B9F-4211-80ED-C6954D0E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A71FD-390D-4290-89F0-0326AA69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D30C4-2D16-423A-B116-0641A1C6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2FD2E-0D08-416D-8EBF-02212A10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C0253-9A63-4FC2-9711-D7699BC8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23025-B676-49C0-BD67-84D0CBA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E8D6E-2B98-4716-B382-F7E56731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83F8A-16A1-44D2-8792-FEEFDC68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F9C64-C25C-4638-8A07-E5EA8001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BD12C-016F-40E3-A79B-6DEE6777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F07D-21FD-4880-BE53-9A121F21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C3BBD-C18F-468F-9DEF-C165DA8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A32EE-D976-4BE9-9807-079B0DF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6AAF4-7CFC-4248-A926-9056B8BF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687DF-C3AC-426A-AA52-E369EBC0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300FC-DDCF-47B2-BEE7-80271678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B52F5-1323-4DC1-BAE4-C8AB58AB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431F9-528B-4761-9C6F-A88CFE47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2439D-B57F-4443-A19A-2D78D7AD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44738-7910-4992-B0FA-C4EDA609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7C5C2-C6CD-4845-ADDB-D3B4DBA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E8BF-BC26-43AA-94B2-9499FF96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513D0-E5FD-48C7-9AAF-B1F34B2A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BBF86-CD7F-4F62-A2DD-C3E11FD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C9FE5-2295-43DB-B321-7E2669FF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8D4F6-3879-4D61-816E-DAD7DA1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51DD5-6BF5-4F47-8A8A-324C3526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06CF5-8930-49EB-9E2E-CF127CB6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A4309-217F-400D-93C9-8CED06D5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27C645-ABF6-4F15-8008-5E395A9D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103992-3A7A-454B-8103-BE7BF592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6F5BDC-213F-4E73-B87C-174C5ADE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210C-A866-4F3A-9024-6ADEE89F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4C1EC6-7197-436C-BCC2-91F64BFA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28F33B-CE38-4F5F-A4FB-D5B73A9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3DBA46-AED3-47D2-87CD-BA709EBE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E89204-5453-43B4-A51E-8460EA8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A5DB17-7063-4C93-9593-84791B22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AFE0B5-C4C9-4D2A-9EAD-825A61DD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A438EC-9057-4C2E-BBE8-A8C250EC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B7711C-B36B-4C32-85D4-3AD0EE63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15433A-2ECF-4EBE-99CF-811E9E1A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6281D-E63C-472D-8574-74CB53F8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821E-C2FB-4F88-8EA4-34E2AEBE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033A0-7D51-4F27-9273-1DFF896D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B6D4E-D56F-4FD9-8580-05F97539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FDF72-50F1-4750-AB4D-95B95472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42634-D9C4-4AE3-AB89-30019109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66D6B-E7DB-4795-99D6-0039DF6F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7A619-F2E4-404C-8150-AE0EEC3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BDE9A-9892-48DC-AAE0-224DA19B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6CD51-564F-4501-937A-D43A172E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44B41-9123-4D7C-BBAF-B58DA611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2AF0F-3F09-447F-86AD-00BCE584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6BF1-E07D-4CB9-8B5E-070BEF69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9F07D-6DEA-4E71-AEAA-AC6102A7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53355-7AA4-4ACF-A434-3675FADB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252DE-FBB9-4191-8191-62EC576A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BC863E-C4C4-4993-9C01-5790E41E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7CE1D-C16D-43A8-8D2B-FEB6B0A5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A3584-1689-4679-B805-7638D631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5EE91-BF60-4BFE-97B2-AF8E47BE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A215D-104B-4C7F-8D04-D8C83FB4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ED964-793A-40C2-A89C-976B640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74105-112F-4DA6-8991-DF0A9A6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0E49-FB25-45C1-884A-EFD2D29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4E8CA-3553-43DF-B0D0-A90017E8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72BA9-1CE3-46FD-9ADF-2D5F1142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AAC23-04B5-467C-8D73-FBE57CAF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C6D-76AE-4767-8929-49CF685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69F2-6BCB-4605-AC38-AFF1972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0C5C-5054-422A-AEDA-05D5C99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F400-8B94-4F56-8671-2810F605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4124-583F-4231-9C45-4C2174CC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7E31-6ABB-453E-9D10-198B755C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AA1C6-880D-4E3F-AC17-1937FCB2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6476-99DC-4D4E-BD62-EAC69996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6B6E-8E5A-4505-91EF-DD258266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B0EA-4603-4285-9F8A-1BCBB7EB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1642-F35B-4F46-AACF-27884AE6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531-91D8-44D2-8AFE-A4ED99AD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E234-ED91-4155-B428-DF83F86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796C-4381-438A-A10F-F92AFCFC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04AA-9CD0-44B2-9DC4-8741EBE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F83B-FF76-4A2A-9348-F524AF0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8B86-19A2-46BA-B75E-2A2117D8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2068-73AC-40C2-A588-05985037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E4805-5D3F-4147-930A-65E28A48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A74E-3FEC-4D4E-A6DF-69C6073F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9F1A-504B-4A73-BA16-209AE132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422D-0C5E-4C0D-BE51-8A958A3D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FB4-EEC4-43F5-A55C-8EC1CB5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3689-087E-4704-B848-B018C7E0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8BA4F-4B69-418E-9928-3BEBEA55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F94F-1C1A-4DE8-9D5A-428ACE4A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211C-2E1B-44ED-A493-A7FF99A4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FDFF-00EB-484C-B8D5-2E2BB1AA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68C5-C9DA-4D8E-B059-427E9F6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4EEF-DAE6-4298-99A9-48510F92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47D5B-AA6B-46D8-A7F3-5F806305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3E37-7F53-470D-82AA-88485203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CE10F-3D9A-43EF-ABF1-E65DC723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608-5290-49F4-A80D-FC37B510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2A0C-A3A4-43AF-AE7B-E2991F84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0B51-F2B1-4587-9533-AC233A6D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97107-42F7-4C8B-84C0-C69722D7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5E7F-881A-4CCC-86EA-CDC4DF35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B2F9B-3A5E-4E01-B4CF-5796A9AB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76EAB-9DBF-4E74-A1F2-5A7CB92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B7966-9A98-45BD-9CE8-91C6522C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6B02-23D6-4994-89F2-F72D1CC4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DA1F2-5949-4133-A74C-2D8FA03E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AE0ED-6547-4C95-93CB-C6B478EA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E9A-4BB0-4BEA-BF42-1B86D5C4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9AFC-09E9-4497-8D49-03983D4C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40B5-1FDF-4AD1-A5A9-9F8E1E52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6C14F-5EB9-439B-8E49-0A39AB2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D8A75-D235-4618-9069-19D9207C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1AFBC-2742-4FD6-A34A-FE46A464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D4443-F81B-4514-8B8A-6BEF44D9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C69B4-FDD8-46BC-96D1-277A4286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0C80-AE61-46F6-AC70-7559941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59C5B-C70E-4DE8-9FD8-6CF60C7D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510F2-526E-488C-995B-170B30C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833-C730-408F-9B8F-009C3346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CD957-F83F-4A4F-8E79-76F8E156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6167-2F29-410E-9AF0-C75F4D70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C836C-A4B0-4849-8845-23EA9CA4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7184-A968-4122-9488-1B018989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9C399-EE9E-4B46-8066-2103579F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465C-326A-4181-818A-1EEB1348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30534-F3E3-42C8-B82E-30E96839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D9D36-6591-4626-B655-85832D8A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1D698-C12C-454D-B9FF-CC6BA427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E2A27-2067-4F81-BA85-E6B2D53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FE6-9665-4E70-8EFD-DB91603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B3BDD-A683-4BC8-BDD9-AB314A6F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ABE3-B6D1-4190-ABE4-6CE023C2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2F7F5-DDDF-4888-8030-2F8B1B57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96939-9210-4FF4-A98A-91D8DC63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45B6-720C-4E48-AA6F-C9BA5BBD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4ADF-214B-4C2F-8BBA-4A30EABE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D71CE-7BAD-4310-A558-255639B2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349D7-69FD-4F19-AB5B-7644811E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A926A-66EE-4BCB-9F93-2D31A854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1F6A2-4916-4026-81A5-30EA91A2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2D6-2DE2-41B4-9021-DE3FD8F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784EC-636D-452C-9685-7EE8EA08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89CD8-C880-4735-BE40-9A5E4C7F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0FA8F-7933-46C5-B99A-31634BC9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7BD75-411E-42E8-8FFA-506AC1D8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A5882-0DA7-46C8-980F-38990AFF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821BC-BDD9-418C-AE06-97F375D8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6BD5B-65B0-4885-B3D1-16F08EC5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F9162-AE03-441B-AF5C-B87D0461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DD5F2-4425-4F17-B970-998A8C06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8A6D1-4B02-4943-A17B-9C93DDDD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8382-1D5A-43AE-8996-9F1834CAF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6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C5A9-9427-47D7-A0F5-C27E64784D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1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1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2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6368-CC4D-4BBE-B817-534207E319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0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0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1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D510-0505-49CC-9E0B-CAAE00FA0E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B411-167F-4E83-BF68-2988612F4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DEDA-AD89-434E-A26E-F1148123A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07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4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4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6BC9-7CAF-4D91-BFC4-832311671E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12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dt" idx="4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ftr" idx="4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sldNum" idx="4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881D-24EA-4C8F-A377-BD0BC52AE9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B5D4-3BF2-4698-B405-BCA7E4278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3A45-BCC4-4C9D-8277-5105F157C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3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26D1-4BC9-4053-ABEE-03FEEEAF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F1CD-2C73-419F-B08E-43BC89D86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64A3-5942-4EEC-ACDC-8E332099B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1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82DF-3F5D-40A8-958D-B88FC10F5F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6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D395-87F3-47A7-9457-478EE47334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2D52-E253-4F95-89E8-2904697523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Шумовое загрязн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телес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32 г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ГП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9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2195640" y="2060640"/>
            <a:ext cx="5918040" cy="3905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Желаю успехов в получении новых знаний!!!!!!!!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ывается ли его влияние на окружающую сред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2262240" cy="301788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3"/>
          <a:stretch/>
        </p:blipFill>
        <p:spPr>
          <a:xfrm>
            <a:off x="3780000" y="1628640"/>
            <a:ext cx="3906720" cy="2932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характеризуйте понятие ЗВУ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вук – это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6" name=""/>
          <p:cNvSpPr/>
          <p:nvPr/>
        </p:nvSpPr>
        <p:spPr>
          <a:xfrm>
            <a:off x="395280" y="299736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луховое ощущение человека, обладающего нормальным слух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азовите виды загрязн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Шумов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ытов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диоактив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см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лияние шума на орган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орган слу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центральную нервную 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егетативную нервную 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нутренние орг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 чему приводит длительное шумовое воздейств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ушение подвижности нервных проце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ушение психического состояния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ушение  работы сердечно-сосудист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фразв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льтразв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2843280" y="333360"/>
            <a:ext cx="374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зву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Шумы машин делятся н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еханически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эродинамически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идродинамически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Электромагнитны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25:56Z</dcterms:created>
  <dc:creator>07083</dc:creator>
  <dc:description/>
  <dc:language>en-US</dc:language>
  <cp:lastModifiedBy>Алексей</cp:lastModifiedBy>
  <dcterms:modified xsi:type="dcterms:W3CDTF">2009-12-22T16:59:14Z</dcterms:modified>
  <cp:revision>9</cp:revision>
  <dc:subject/>
  <dc:title>Шумовое загрязнение</dc:title>
</cp:coreProperties>
</file>